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0A2-2531-40EE-8CCA-F848B3F6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989-822C-4400-BF0E-FC38A973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6E8-73ED-43ED-9716-BC675D34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ECF-C156-4FC8-969B-51C651B4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02B8-7739-4563-A26E-2EAEAB95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58D9-6713-45B8-A36E-AA2CD2F7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A946-7C19-4B4F-8234-22D04750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2EB4-0584-4DE0-B607-0E87A1DE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0692-16F1-4772-9CCC-043AB384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CD09-B693-41D1-9267-39E800C1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6E83-40D2-4084-B768-A0059310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8FA-8ED0-4076-92BB-95429CC3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04E8-1716-4D3B-A6FB-F63E7B1B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2CC9-5BCC-46DD-A6AD-E452B2B5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F276-8D91-40F6-A690-CA8C6A4E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2053-1EA7-4B9C-B831-D59333E5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60D3-EA58-4C16-8B82-669EAC14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57E-B6E3-4529-B769-0D5043C4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A896-EE65-441E-A53C-26A3CC9E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607-DFDD-4ADD-9915-781EE9C0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083-7187-4329-8667-0A826A2D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BE6-EEFC-404E-96C5-093EE936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882-E720-415A-8904-B391DDBD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C402-1CDC-4AFE-B07D-035C1CFE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7130-0F41-4B6E-B871-59938554A94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7397-6607-46D3-ADE6-CF0E00568B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BBD9-DF86-4A93-9B33-F5224DD291A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1C96-5A70-4CC0-9313-D5A9F900B6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Beatstreetposter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0/PharoahSanders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42696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BernhardMod BT"/>
                <a:ea typeface="GungsuhChe"/>
              </a:rPr>
              <a:t>Music moves the masses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635280" y="418464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72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tchen O’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er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2BFA-117E-4205-AA83-4023D5EC342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83AD2DE-2B2B-44B5-9FD1-B0C4EAC90AE5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act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heart rate wi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 Musi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al Musi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zz Musi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85D-43E4-4FD8-838A-D6C395BD84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32AFA-C705-4D9A-ABD3-1DD65DFA0ABA}" type="datetime1">
              <a:rPr lang="en-US"/>
              <a:t>07/31/26</a:t>
            </a:fld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onclu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63640" y="1981080"/>
            <a:ext cx="805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you can see and feel music does move the masses especially the mass of your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ould have made the differ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DB5-9629-4756-A36C-8DADE0235B0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DC07E-2862-4ED3-AC10-B004BC703F8C}" type="datetime1">
              <a:rPr lang="en-US"/>
              <a:t>07/31/26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7491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042920" y="800280"/>
            <a:ext cx="7824960" cy="47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3 types of music  &amp; their hi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 to types of mus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music effect your heart r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  Standing Heart Rate: “at rest”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E2B-3B7E-414C-987E-E408C92763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5FB1F-7A6F-4D91-898D-A9FE298F5242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32000" y="549000"/>
            <a:ext cx="7175520" cy="54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ypes of Mu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 &amp; Hip 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885-01CA-4193-823E-A9396C5C750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BF128-C3E6-40BD-85B7-CEB6EC1CC60E}" type="datetime1">
              <a:rPr lang="en-US"/>
              <a:t>07/31/26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ap Music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5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hip-hop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iginated in the mid-1970s among black and Hispanic performers in New York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d with a style of dancing, known as breakdanc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rap, derived from a 1960s slang word for convers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s of street poetry accompanied by a montage of well-known recordings, usually disco or fun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9CD-9B06-47D8-BD7E-581A6778D3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299BB-EF15-4800-9A4B-318A2DCF2239}" type="datetime1">
              <a:rPr lang="en-US"/>
              <a:t>07/31/26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ap Music &amp; Heart Rat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63640" y="1981080"/>
            <a:ext cx="805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icon, listen for 1 minute, then take pulse, 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25290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C8A-848C-4059-9200-906C644B416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0F7F6-1218-48C8-B0BE-58581ECF6B56}" type="datetime1">
              <a:rPr lang="en-US"/>
              <a:t>07/31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34340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assical Music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640" y="198108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usic included opera, chamber music, choral pieces, and music requiring a full orchest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ost, however, classical music refers to all of the above types of music within most time periods before the 20th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A62-4413-4438-A238-064EC19039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3CCF6-B2EE-4A3F-953C-CAAED1B57DED}" type="datetime1">
              <a:rPr lang="en-US"/>
              <a:t>07/31/26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assical &amp; Heart Rat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1640" y="1981080"/>
            <a:ext cx="848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icon, listen for 1 minute, then take pulse, 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03640" y="2637000"/>
            <a:ext cx="3109680" cy="3752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89F-9655-495D-8E2C-6AFEF8C0F69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BA8DA-F28C-45F9-A3DD-C6935F64E3F7}" type="datetime1">
              <a:rPr lang="en-US"/>
              <a:t>07/31/26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36472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Jazz Music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5640" y="1981080"/>
            <a:ext cx="779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endt defines jazz as a "form of art music which originated in the United States through the confrontation of blacks with European music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065-0B4A-4097-8FC5-37D0F2CFDFD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B21D7-3D84-417B-83ED-ECBF509787D4}" type="datetime1">
              <a:rPr lang="en-US"/>
              <a:t>07/31/26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Jazz &amp; Heart Rat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833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icon,listen for 1 minute, take pulse, 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File:PharoahSand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03640" y="2600280"/>
            <a:ext cx="5101920" cy="3645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9B0-ECBC-4FC5-8A6A-1F3752D0B7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41F5B-5CAD-41DC-AB97-8561CAB7EEF9}" type="datetime1">
              <a:rPr lang="en-US"/>
              <a:t>07/31/2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5997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gi</cp:lastModifiedBy>
  <dcterms:modified xsi:type="dcterms:W3CDTF">2009-08-08T08:23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